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ftr" idx="26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BE36-48CE-4A92-B58C-29BE5D95A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3D9C-26D7-4BB0-9A60-1673F78F0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E3CE-48F6-463F-BDBB-B461C5C4E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1DEE-C113-4E11-B6CF-97928F220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F6F0-A27D-40C4-BFBB-7DB562E55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56E8-1D65-4406-A8FC-1802D3980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E192-2251-4ECF-92CD-428094C8A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4B8D-0666-4F91-AB67-DFBB8445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13F-3B83-4822-A549-B20F9184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85B-99FE-4007-ACCF-88F9CD56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587F-8601-44B6-A811-D05771B4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E1D2-595E-4DF2-9738-21993CB9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598F-3D6E-415D-9131-C6924677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1E99-B74D-4D23-B2E3-D6C5023C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3438-3B33-44C0-9D08-37B54D47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57C4-7866-4A36-88EA-310E193C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C6F2-78CB-42E5-867B-2BB1BD7A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0065-5783-4417-87AC-D5E5BD2B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322-6BEF-437B-9852-50EFF752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B99F-EB65-4EB7-897E-A067EA47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247E-DDC0-417C-B799-C2E8CEC7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22CC-3D70-4BB1-968E-9EAA82E1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138B-CA2C-4392-B16E-09A2180E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7695-E2BB-4935-9AD6-38D435D5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9357F-D6A1-416A-92F7-BEA37510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1820F-7AC0-463A-A522-D9930345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D8417-DB3A-4AF9-BCAA-9EAF6231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8DE20-1381-43BA-96D5-7499952A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36A82-A9D9-4694-8AED-E0647606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2A7-C663-4B44-B5BB-EDBFD729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613F0-F5F5-43AD-8798-45D75459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4400F-92F1-4FE5-8148-CFAE427B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D468C-9A40-4415-BCE3-94AE1987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2BA8F-2182-44E6-B882-489C122A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2C369-6B69-49C4-9A9D-B17DE5C8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22747-2BE4-47C8-A821-DC4D9505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53FAB-9578-4638-9B65-1C789E58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D5FBE0-03BF-48F7-A46E-BD4CC93F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5823A5-3DE4-4267-A6C3-0722EB6A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51BE44-5319-496C-803E-B3296289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415-BAC6-49DF-9206-AE083206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2A2644-D1DA-4BD7-9A2F-1487CBF0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A767AD-F4AC-41D3-9C72-BD2735AA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81B2F4-C695-4269-A04B-922A1379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4E6AAF-427D-4E6B-BBF9-49CF4A41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97BCAC-74EA-408E-81B6-3B782718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7B1BE3-2F79-4DE8-8A69-26381C26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C511FB-2443-4716-A6A8-B646B011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63919A-2A77-4053-A167-9B21A94E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08B3F7-A6A9-4A57-BD38-163EFD8E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6B3D5-C917-420C-BD72-C7F66E39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1C9A-9A48-4FDB-B565-CB942BE9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8764E-0FAB-40DE-832A-8B5C1697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86194-B370-4ECA-9572-6368DA66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13917-563D-481E-93A0-935F0E83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14A02-7AFA-4279-A42A-D0800344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70188-9475-4608-A866-0339344C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6DAD7-70F5-476F-B2D2-8179B5DF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ED200-A91B-45B6-B01B-4635F400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6A1E7-E007-4015-89C5-F2E59EE1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B8CA4-0317-4FA7-A0F3-8AB86F58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ABE96-C7C9-4377-B36C-83E806F5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0554-573D-4A88-8CFF-78D1CE05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E3714-36CB-4ECE-8B6A-E705807B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C617E3-0167-430A-A8EA-EA6F192E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D3F4D7-6B71-4FB5-91C5-9B7E5C6A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06800C-B412-4F16-87E3-2001A435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26FD90-4B6C-483B-AC53-F5590500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386FE0-0148-4E0A-9046-E96B3B83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D410AD-6E22-431B-97B0-B4019552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34B920-683A-4414-8672-1767845E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0F5275-67C2-447B-994C-6077BDDA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2E845E-2A3B-4C69-A1D7-1A93432C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53D-D6B2-4DCE-8D91-1F93B04C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EEC1AB-FEEF-4799-AD4B-C38FE52B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D13F55-8190-4C39-8447-F210DE62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CD2EFD-A5A1-403C-B0C2-B3AA625C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D8FB6E-9BFD-48B1-A59D-D6898E74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DEC863-1C32-4B40-BB92-C49AB933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2E2164-CC6E-4A55-95FE-7B9E6B68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322272-3CD7-4882-A7CC-A96B7A54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5674E3-22C1-469A-A8B1-D2AF1625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1AA38D-A0D4-4464-98BE-4264A1B5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A35192-F1D4-46F9-BA92-28A9B9BF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B60-5BFE-4F35-BDC0-D85E86A1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4EB59B-7FDF-4FF3-AAB8-0D7F2266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4ECAB3-2DB6-4BC6-84C3-7D392AB1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62AADE-7E30-4B45-802F-92C5415F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250827-5194-4811-BF96-0588D661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0D00E4-9ABA-447C-8D78-58AE57DE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D678B8-FF58-4DD1-994D-3D0778CC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05A8C7-4B9C-478B-99A3-A3B176C3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CE5EDC-C3F5-46D1-9D39-676ED958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29A7D5-7BD4-44ED-8CD2-CEEB12DD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D9372A-7EDF-469D-AD6F-9D65E56B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C6FD-B56B-43ED-9204-B0249D74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19360B-BCFA-437A-9E1B-F50C8444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C0FEDB-708D-4451-9D50-F4459F4A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ABD303-2F6A-4D8C-8BA1-FE98D523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3522FD-81A5-4B32-AD79-1109721F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666959-A374-4BC3-BD47-0452303E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B8D8FB-2DB2-4F07-BDEF-B2510166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C8D0E8-E9FD-4BA4-9A29-74037208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ED39-8467-4502-82C0-107631D68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4F0A-7068-4348-926B-E7047CFD7B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B4E6-8C71-4CF7-B75F-AF74D89661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2F1E-D0DE-4D1F-B53E-600A08AA92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F52F-673A-4171-9387-4FCB608AC31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B3DD-551F-4806-B3F8-D04B570789B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544D-05E9-4BB8-BAB2-7C56D13BA5F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A73C-04D9-487B-944C-30AAD235B1E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JUNIOR VOCABUL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Roots List # 1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PED, PEDE, PEDESTRI, PEDI, PEDO, POD, PU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oo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ee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oote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d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entiped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destria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dicur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dome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diatris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Biped/bipo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Octopu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latypu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ripo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4" descr="centipede.jpg"/>
          <p:cNvPicPr/>
          <p:nvPr/>
        </p:nvPicPr>
        <p:blipFill>
          <a:blip r:embed="rId1"/>
          <a:stretch/>
        </p:blipFill>
        <p:spPr>
          <a:xfrm>
            <a:off x="2895480" y="3200400"/>
            <a:ext cx="2133720" cy="13716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podiatrist.jpg"/>
          <p:cNvPicPr/>
          <p:nvPr/>
        </p:nvPicPr>
        <p:blipFill>
          <a:blip r:embed="rId2"/>
          <a:stretch/>
        </p:blipFill>
        <p:spPr>
          <a:xfrm>
            <a:off x="304920" y="3276720"/>
            <a:ext cx="1523880" cy="1447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pedal.jpg"/>
          <p:cNvPicPr/>
          <p:nvPr/>
        </p:nvPicPr>
        <p:blipFill>
          <a:blip r:embed="rId3"/>
          <a:stretch/>
        </p:blipFill>
        <p:spPr>
          <a:xfrm>
            <a:off x="7391520" y="28954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pedestrian.jpg"/>
          <p:cNvPicPr/>
          <p:nvPr/>
        </p:nvPicPr>
        <p:blipFill>
          <a:blip r:embed="rId4"/>
          <a:stretch/>
        </p:blipFill>
        <p:spPr>
          <a:xfrm>
            <a:off x="7315200" y="380880"/>
            <a:ext cx="1247760" cy="12477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8" descr="pedicure.jpg"/>
          <p:cNvPicPr/>
          <p:nvPr/>
        </p:nvPicPr>
        <p:blipFill>
          <a:blip r:embed="rId5"/>
          <a:stretch/>
        </p:blipFill>
        <p:spPr>
          <a:xfrm>
            <a:off x="2057400" y="4876920"/>
            <a:ext cx="2057400" cy="1666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platypus.jpg"/>
          <p:cNvPicPr/>
          <p:nvPr/>
        </p:nvPicPr>
        <p:blipFill>
          <a:blip r:embed="rId6"/>
          <a:stretch/>
        </p:blipFill>
        <p:spPr>
          <a:xfrm>
            <a:off x="3124080" y="121932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tripod.jpg"/>
          <p:cNvPicPr/>
          <p:nvPr/>
        </p:nvPicPr>
        <p:blipFill>
          <a:blip r:embed="rId7"/>
          <a:stretch/>
        </p:blipFill>
        <p:spPr>
          <a:xfrm>
            <a:off x="304920" y="525780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ENT, PEN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iv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ntathl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ntag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ntame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4" name="Picture 4" descr="pentagon.jpg"/>
          <p:cNvPicPr/>
          <p:nvPr/>
        </p:nvPicPr>
        <p:blipFill>
          <a:blip r:embed="rId1"/>
          <a:stretch/>
        </p:blipFill>
        <p:spPr>
          <a:xfrm>
            <a:off x="7086600" y="0"/>
            <a:ext cx="1609560" cy="16095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pentagonn.jpg"/>
          <p:cNvPicPr/>
          <p:nvPr/>
        </p:nvPicPr>
        <p:blipFill>
          <a:blip r:embed="rId2"/>
          <a:stretch/>
        </p:blipFill>
        <p:spPr>
          <a:xfrm>
            <a:off x="6019920" y="3352680"/>
            <a:ext cx="2361960" cy="2105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pentameter.jpg"/>
          <p:cNvPicPr/>
          <p:nvPr/>
        </p:nvPicPr>
        <p:blipFill>
          <a:blip r:embed="rId3"/>
          <a:stretch/>
        </p:blipFill>
        <p:spPr>
          <a:xfrm>
            <a:off x="533520" y="2514600"/>
            <a:ext cx="2819160" cy="18288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pentathlon.jpg"/>
          <p:cNvPicPr/>
          <p:nvPr/>
        </p:nvPicPr>
        <p:blipFill>
          <a:blip r:embed="rId4"/>
          <a:stretch/>
        </p:blipFill>
        <p:spPr>
          <a:xfrm>
            <a:off x="2514600" y="4495680"/>
            <a:ext cx="1495440" cy="20764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pentathlonn.jpg"/>
          <p:cNvPicPr/>
          <p:nvPr/>
        </p:nvPicPr>
        <p:blipFill>
          <a:blip r:embed="rId5"/>
          <a:stretch/>
        </p:blipFill>
        <p:spPr>
          <a:xfrm>
            <a:off x="380880" y="4419720"/>
            <a:ext cx="1676520" cy="21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ER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roun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bou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ea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ncirclin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rigee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gee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earth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riscop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rime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rio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ripher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Picture 4" descr="apogee.jpg"/>
          <p:cNvPicPr/>
          <p:nvPr/>
        </p:nvPicPr>
        <p:blipFill>
          <a:blip r:embed="rId1"/>
          <a:stretch/>
        </p:blipFill>
        <p:spPr>
          <a:xfrm>
            <a:off x="304920" y="4267080"/>
            <a:ext cx="2743200" cy="2210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periscope.jpg"/>
          <p:cNvPicPr/>
          <p:nvPr/>
        </p:nvPicPr>
        <p:blipFill>
          <a:blip r:embed="rId2"/>
          <a:stretch/>
        </p:blipFill>
        <p:spPr>
          <a:xfrm>
            <a:off x="3429000" y="3048120"/>
            <a:ext cx="2057400" cy="17524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peripheral.jpg"/>
          <p:cNvPicPr/>
          <p:nvPr/>
        </p:nvPicPr>
        <p:blipFill>
          <a:blip r:embed="rId3"/>
          <a:stretch/>
        </p:blipFill>
        <p:spPr>
          <a:xfrm>
            <a:off x="3124080" y="22860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periscopee.jpg"/>
          <p:cNvPicPr/>
          <p:nvPr/>
        </p:nvPicPr>
        <p:blipFill>
          <a:blip r:embed="rId4"/>
          <a:stretch/>
        </p:blipFill>
        <p:spPr>
          <a:xfrm>
            <a:off x="5943600" y="4800600"/>
            <a:ext cx="1886040" cy="1523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perimeter.jpg"/>
          <p:cNvPicPr/>
          <p:nvPr/>
        </p:nvPicPr>
        <p:blipFill>
          <a:blip r:embed="rId5"/>
          <a:stretch/>
        </p:blipFill>
        <p:spPr>
          <a:xfrm>
            <a:off x="7010280" y="152280"/>
            <a:ext cx="156240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HIL, PHILE, PHILIA, PHIL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o lov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Lovin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ondnes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hilanthropist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ist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one who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Bibliophi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hilosoph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ecrophili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nglophi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* Hemophilia (uncontrollable bleeding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0" name="Picture 5" descr="bibliophile.jpg"/>
          <p:cNvPicPr/>
          <p:nvPr/>
        </p:nvPicPr>
        <p:blipFill>
          <a:blip r:embed="rId1"/>
          <a:stretch/>
        </p:blipFill>
        <p:spPr>
          <a:xfrm>
            <a:off x="3048120" y="2362320"/>
            <a:ext cx="1942920" cy="1218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philanthropist.jpg"/>
          <p:cNvPicPr/>
          <p:nvPr/>
        </p:nvPicPr>
        <p:blipFill>
          <a:blip r:embed="rId2"/>
          <a:stretch/>
        </p:blipFill>
        <p:spPr>
          <a:xfrm>
            <a:off x="533520" y="3962520"/>
            <a:ext cx="2209680" cy="15238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philanthroistt.jpg"/>
          <p:cNvPicPr/>
          <p:nvPr/>
        </p:nvPicPr>
        <p:blipFill>
          <a:blip r:embed="rId3"/>
          <a:stretch/>
        </p:blipFill>
        <p:spPr>
          <a:xfrm>
            <a:off x="3048120" y="4952880"/>
            <a:ext cx="2057400" cy="13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HOBE, PHOBI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bnormal fea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Hatre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islik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nglophob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laustrophobi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claustro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confine; close; shut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yrophobi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pyro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fir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Hydrophobi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Xenophobi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Zoophobia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zoo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animals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6" name="Picture 4" descr="zoophobiaaa.jpg"/>
          <p:cNvPicPr/>
          <p:nvPr/>
        </p:nvPicPr>
        <p:blipFill>
          <a:blip r:embed="rId1"/>
          <a:stretch/>
        </p:blipFill>
        <p:spPr>
          <a:xfrm>
            <a:off x="7315200" y="3886200"/>
            <a:ext cx="1600200" cy="13525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zoophobiaa.jpg"/>
          <p:cNvPicPr/>
          <p:nvPr/>
        </p:nvPicPr>
        <p:blipFill>
          <a:blip r:embed="rId2"/>
          <a:stretch/>
        </p:blipFill>
        <p:spPr>
          <a:xfrm>
            <a:off x="3200400" y="228600"/>
            <a:ext cx="2057400" cy="13906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zoophobia.jpg"/>
          <p:cNvPicPr/>
          <p:nvPr/>
        </p:nvPicPr>
        <p:blipFill>
          <a:blip r:embed="rId3"/>
          <a:stretch/>
        </p:blipFill>
        <p:spPr>
          <a:xfrm>
            <a:off x="2743200" y="3962520"/>
            <a:ext cx="2438280" cy="17524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claustrophobia.jpg"/>
          <p:cNvPicPr/>
          <p:nvPr/>
        </p:nvPicPr>
        <p:blipFill>
          <a:blip r:embed="rId4"/>
          <a:stretch/>
        </p:blipFill>
        <p:spPr>
          <a:xfrm>
            <a:off x="228600" y="32767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hydrophobia.jpg"/>
          <p:cNvPicPr/>
          <p:nvPr/>
        </p:nvPicPr>
        <p:blipFill>
          <a:blip r:embed="rId5"/>
          <a:stretch/>
        </p:blipFill>
        <p:spPr>
          <a:xfrm>
            <a:off x="228600" y="5181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pyrophobia.jpg"/>
          <p:cNvPicPr/>
          <p:nvPr/>
        </p:nvPicPr>
        <p:blipFill>
          <a:blip r:embed="rId6"/>
          <a:stretch/>
        </p:blipFill>
        <p:spPr>
          <a:xfrm>
            <a:off x="6553080" y="228600"/>
            <a:ext cx="180972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Nvasquez</cp:lastModifiedBy>
  <dcterms:modified xsi:type="dcterms:W3CDTF">2011-04-25T14:32:09Z</dcterms:modified>
  <cp:revision>30</cp:revision>
  <dc:subject/>
  <dc:title>Roots List #1</dc:title>
</cp:coreProperties>
</file>